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6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7"/>
          </p:nvPr>
        </p:nvSpPr>
        <p:spPr>
          <a:xfrm>
            <a:off x="0" y="8832600"/>
            <a:ext cx="303696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8"/>
          </p:nvPr>
        </p:nvSpPr>
        <p:spPr>
          <a:xfrm>
            <a:off x="3973320" y="8832600"/>
            <a:ext cx="303660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FD6C388-7330-4802-A00B-A624882CB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DD8257E-9410-442F-853F-6B400A4B0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73240" y="687240"/>
            <a:ext cx="4681440" cy="35118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1944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56CE10F-8C06-4161-A339-3ECF00B4F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F00FB25-9FFC-4871-BC5A-05FB3FFCC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5E95753-F3CF-423A-A5AE-3BD34A56E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4CD9480-21F6-4BF5-A18E-AD375D6AC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B4BA395-0E24-4CB7-828E-03670D128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759D216-A5D3-4EC2-BD96-1449C8568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371F90D-86D9-4C30-AD4D-EA4FEFF10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E4379A8-8700-4E29-B672-E07278A52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984320" y="609480"/>
            <a:ext cx="2827440" cy="212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31D9F5A-E88D-4B1C-BD7B-C6306D00F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AF7AD64-7E00-4983-8557-2FE7B8CFD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D011BB1-924F-4B22-A527-E468A55C9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35DF2DF-CCB7-4401-AEA1-BB50ADCAF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73240" y="687240"/>
            <a:ext cx="4681440" cy="35118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1944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58BF129-9994-4BB2-9BEB-90C88807C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C40F3-D623-4831-BF0E-9978AF7719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99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15D54-C072-4E25-9415-A8F196E093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99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199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15AE6-99C5-4BE0-8354-509E4D30A7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9144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9144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99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199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199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21A19-B67A-47DC-9ABB-9F82E8E2EF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D4985-D502-4CF5-9FC3-36BA07B1D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BD696-560A-4F13-8BCF-8B18D4F0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76104-6375-400B-9664-59FE472B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6AD91-0737-40E3-B0C1-59C40237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5635A-8BEB-44F2-9D01-13A7D15C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42640" y="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184C6-5DBB-43CD-856F-1AFD0343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38199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BBFF3-1671-4FDD-9962-C0705CD1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4608F-626B-46CF-9337-CCA6844D36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0000" y="38199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80087-8007-423C-A54C-B458AABB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38199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71982-DEC4-4890-B364-2D3F4788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8600" y="38199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7C8B9-5E4B-4192-8CDD-870A379F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600" y="38199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0000" y="38199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94DE6-5BA2-435F-BE4B-AFF4CA1A5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65840" y="9144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02720" y="9144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8600" y="38199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65840" y="38199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02720" y="38199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8457E-108C-4BB5-B506-31FBD9716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7E72D-1914-470B-B730-C73365A8947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42640" y="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28600" y="38199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80000" y="38199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600" y="38199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28600" y="38199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" y="38199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80000" y="38199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65840" y="9144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02720" y="9144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28600" y="38199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65840" y="38199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02720" y="38199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56614-D067-4D20-9B39-481532022E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835A0-618C-445B-906E-1632ECEE5B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B712C-3081-41CF-ABC6-D0237F49BA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99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614C4-F458-4677-AD6E-ECAFC93D7D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199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F3A90-A462-4348-9910-CECB7F364B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99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051AB-3BC4-45A1-9F6C-5155B0261A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904760" y="670536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101160" y="6705360"/>
            <a:ext cx="12193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Bank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85EF-1746-43C6-8498-BD98990E8691}" type="slidenum">
              <a:rPr b="0" lang="en-US" sz="1000" spc="-1" strike="noStrike">
                <a:solidFill>
                  <a:srgbClr val="000000"/>
                </a:solidFill>
                <a:latin typeface="Bank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6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42" descr="\\ns01\install\Office\ClipMedia\disk2\FILES\PFILES\MSOFFICE\MEDIA\CNTCD1\ClipArt8\j0343591.wmf"/>
          <p:cNvPicPr/>
          <p:nvPr/>
        </p:nvPicPr>
        <p:blipFill>
          <a:blip r:embed="rId2"/>
          <a:stretch/>
        </p:blipFill>
        <p:spPr>
          <a:xfrm>
            <a:off x="92160" y="0"/>
            <a:ext cx="826920" cy="817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2"/>
          <p:cNvSpPr/>
          <p:nvPr/>
        </p:nvSpPr>
        <p:spPr>
          <a:xfrm flipH="1">
            <a:off x="1657440" y="934920"/>
            <a:ext cx="7486560" cy="0"/>
          </a:xfrm>
          <a:prstGeom prst="line">
            <a:avLst/>
          </a:prstGeom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23"/>
          <p:cNvSpPr/>
          <p:nvPr/>
        </p:nvSpPr>
        <p:spPr>
          <a:xfrm flipV="1">
            <a:off x="939960" y="1641600"/>
            <a:ext cx="0" cy="5216400"/>
          </a:xfrm>
          <a:prstGeom prst="line">
            <a:avLst/>
          </a:prstGeom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24"/>
          <p:cNvSpPr/>
          <p:nvPr/>
        </p:nvSpPr>
        <p:spPr>
          <a:xfrm flipV="1">
            <a:off x="939960" y="0"/>
            <a:ext cx="0" cy="225360"/>
          </a:xfrm>
          <a:prstGeom prst="line">
            <a:avLst/>
          </a:prstGeom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25"/>
          <p:cNvSpPr/>
          <p:nvPr/>
        </p:nvSpPr>
        <p:spPr>
          <a:xfrm flipH="1">
            <a:off x="0" y="936720"/>
            <a:ext cx="225360" cy="0"/>
          </a:xfrm>
          <a:prstGeom prst="line">
            <a:avLst/>
          </a:prstGeom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2" descr="\\ns01\install\Office\ClipMedia\disk2\FILES\PFILES\MSOFFICE\MEDIA\CNTCD1\ClipArt8\j0343591.wmf"/>
          <p:cNvPicPr/>
          <p:nvPr/>
        </p:nvPicPr>
        <p:blipFill>
          <a:blip r:embed="rId2"/>
          <a:stretch/>
        </p:blipFill>
        <p:spPr>
          <a:xfrm>
            <a:off x="252360" y="235080"/>
            <a:ext cx="1400400" cy="13809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1904760" y="670536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5"/>
          </p:nvPr>
        </p:nvSpPr>
        <p:spPr>
          <a:xfrm>
            <a:off x="4800240" y="6705360"/>
            <a:ext cx="12193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Bank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6989-0ABD-4B7B-971A-D106D287572F}" type="slidenum">
              <a:rPr b="0" lang="en-US" sz="1000" spc="-1" strike="noStrike">
                <a:solidFill>
                  <a:srgbClr val="000000"/>
                </a:solidFill>
                <a:latin typeface="Bank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Line 16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2" descr="\\ns01\install\Office\ClipMedia\disk2\FILES\PFILES\MSOFFICE\MEDIA\CNTCD1\ClipArt8\j0343591.wmf"/>
          <p:cNvPicPr/>
          <p:nvPr/>
        </p:nvPicPr>
        <p:blipFill>
          <a:blip r:embed="rId2"/>
          <a:stretch/>
        </p:blipFill>
        <p:spPr>
          <a:xfrm>
            <a:off x="92160" y="0"/>
            <a:ext cx="826920" cy="8175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s://creativecommons.org/licenses/by/4.0/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s://creativecommons.org/licenses/by/4.0/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22093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SS Development Team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 June 200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4"/>
          <p:cNvSpPr/>
          <p:nvPr/>
        </p:nvSpPr>
        <p:spPr>
          <a:xfrm>
            <a:off x="101520" y="670572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AE63-162A-41D6-8715-F50D24B7CD7A}" type="slidenum">
              <a:rPr b="0" lang="en-US" sz="1000" spc="-1" strike="noStrike">
                <a:solidFill>
                  <a:srgbClr val="000000"/>
                </a:solidFill>
                <a:latin typeface="Bank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ject Strateg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101520" y="670572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04E6-78C3-41F2-BCA1-3E42BD1C8A7A}" type="slidenum">
              <a:rPr b="0" lang="en-US" sz="1000" spc="-1" strike="noStrike">
                <a:solidFill>
                  <a:srgbClr val="000000"/>
                </a:solidFill>
                <a:latin typeface="Bank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Quality Pla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1" name="ChartEV"/>
          <p:cNvGraphicFramePr/>
          <p:nvPr/>
        </p:nvGraphicFramePr>
        <p:xfrm>
          <a:off x="533520" y="1371600"/>
          <a:ext cx="807696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ChartEV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71600"/>
                    <a:ext cx="80769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101520" y="670572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B574-67D2-4437-A06D-420C6EC71402}" type="slidenum">
              <a:rPr b="0" lang="en-US" sz="1000" spc="-1" strike="noStrike">
                <a:solidFill>
                  <a:srgbClr val="000000"/>
                </a:solidFill>
                <a:latin typeface="Bank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cop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915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4"/>
          <p:cNvSpPr/>
          <p:nvPr/>
        </p:nvSpPr>
        <p:spPr>
          <a:xfrm>
            <a:off x="101520" y="670572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D209-D86B-44E8-A618-5D46FBE27C82}" type="slidenum">
              <a:rPr b="0" lang="en-US" sz="1000" spc="-1" strike="noStrike">
                <a:solidFill>
                  <a:srgbClr val="000000"/>
                </a:solidFill>
                <a:latin typeface="Bank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84280" y="390600"/>
            <a:ext cx="5378400" cy="3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isk Managemen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4"/>
          <p:cNvSpPr/>
          <p:nvPr/>
        </p:nvSpPr>
        <p:spPr>
          <a:xfrm>
            <a:off x="101520" y="670572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8901-1D5E-4A5B-9982-4286E99FB6DA}" type="slidenum">
              <a:rPr b="0" lang="en-US" sz="1000" spc="-1" strike="noStrike">
                <a:solidFill>
                  <a:srgbClr val="000000"/>
                </a:solidFill>
                <a:latin typeface="Bank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produced a realistic, aggressive p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lan meets most of the targeted go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need management agreement to begin work toward the go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295280" y="1494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Questions?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676520" y="2285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Creative Commons Licens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8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101520" y="670572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6EE6-B8C5-4416-9420-C58C54FF5ABF}" type="slidenum">
              <a:rPr b="0" lang="en-US" sz="1000" spc="-1" strike="noStrike">
                <a:solidFill>
                  <a:srgbClr val="000000"/>
                </a:solidFill>
                <a:latin typeface="Bank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39920" y="223920"/>
            <a:ext cx="5378400" cy="3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mmary Of TSP Launch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1981080" y="1527120"/>
            <a:ext cx="69343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viewed product objectives and management goals with the tea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project goals and established ro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ed development strategy, development process and support pl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ed overall plan through phase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viewed quality pl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ed detailed plan for phase 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formed risk assess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overview slid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 launch to manage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308520" y="1527120"/>
            <a:ext cx="11149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eting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eting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eting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eting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eting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eting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eting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eting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eting 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101520" y="670572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8DA6-5A6E-4C01-84B7-3A95A8080E9B}" type="slidenum">
              <a:rPr b="0" lang="en-US" sz="1000" spc="-1" strike="noStrike">
                <a:solidFill>
                  <a:srgbClr val="000000"/>
                </a:solidFill>
                <a:latin typeface="Bank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84280" y="390600"/>
            <a:ext cx="5378400" cy="3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SP Launch Produc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017800" y="1100160"/>
            <a:ext cx="604656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ed team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-member role assig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entory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able quality pla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all development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ed team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vidual p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risk assess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4"/>
          <p:cNvSpPr/>
          <p:nvPr/>
        </p:nvSpPr>
        <p:spPr>
          <a:xfrm>
            <a:off x="101520" y="670572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5040-7CFC-4E85-93D9-40D938049870}" type="slidenum">
              <a:rPr b="0" lang="en-US" sz="1000" spc="-1" strike="noStrike">
                <a:solidFill>
                  <a:srgbClr val="000000"/>
                </a:solidFill>
                <a:latin typeface="Bank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84280" y="390600"/>
            <a:ext cx="5378400" cy="3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la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35040" y="1198080"/>
            <a:ext cx="796752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arned Value Pla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101520" y="670572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8A1B-817D-452F-A044-4A2D3C4D02ED}" type="slidenum">
              <a:rPr b="0" lang="en-US" sz="1000" spc="-1" strike="noStrike">
                <a:solidFill>
                  <a:srgbClr val="000000"/>
                </a:solidFill>
                <a:latin typeface="Bank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4"/>
          <p:cNvSpPr/>
          <p:nvPr/>
        </p:nvSpPr>
        <p:spPr>
          <a:xfrm>
            <a:off x="101520" y="670572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05A9-A8E8-441F-AB5C-17793105867E}" type="slidenum">
              <a:rPr b="0" lang="en-US" sz="1000" spc="-1" strike="noStrike">
                <a:solidFill>
                  <a:srgbClr val="000000"/>
                </a:solidFill>
                <a:latin typeface="Bank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4880" y="-360"/>
            <a:ext cx="71118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oal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5320" y="1066680"/>
            <a:ext cx="818208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am Members and Rol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866960" y="1608120"/>
            <a:ext cx="6076800" cy="34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gine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am L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Interface Manag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ign Manag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ation Manag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Manag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ning Manag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Manag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y Manag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Manag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Membe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4"/>
          <p:cNvSpPr/>
          <p:nvPr/>
        </p:nvSpPr>
        <p:spPr>
          <a:xfrm>
            <a:off x="101520" y="670572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4CF6-456E-4C75-8FB7-34FB79357AA9}" type="slidenum">
              <a:rPr b="0" lang="en-US" sz="1000" spc="-1" strike="noStrike">
                <a:solidFill>
                  <a:srgbClr val="000000"/>
                </a:solidFill>
                <a:latin typeface="Bank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84280" y="390600"/>
            <a:ext cx="5378400" cy="3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ssumption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75920" y="876240"/>
            <a:ext cx="8420040" cy="55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9T13:31:34Z</dcterms:created>
  <dc:creator>SEI</dc:creator>
  <dc:description/>
  <dc:language>en-US</dc:language>
  <cp:lastModifiedBy>wrn_loc_adm</cp:lastModifiedBy>
  <dcterms:modified xsi:type="dcterms:W3CDTF">2018-09-05T13:59:13Z</dcterms:modified>
  <cp:revision>221</cp:revision>
  <dc:subject/>
  <dc:title>PowerPoint Presentation</dc:title>
</cp:coreProperties>
</file>